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EE8A-7540-4578-B95A-8572B02F7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D8AA-D8B0-4F09-8A60-5C3E9506E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23688-CA74-4CFA-92BA-5B0741A03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7073-3492-49A8-BF28-3C441495C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7A45-65D1-4C7C-9813-0A61C9594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F19C1-4BE7-4987-B287-CBA2C8888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4D06-B9CA-4CD5-8563-D3C2F3B6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7303B-ABDC-4068-A269-29493503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477C-814D-4D9F-BADD-96E903C7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7A0C-9C5B-4355-A51F-1FA6C77C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9EC6-6C3D-4218-87EB-7E79C3E7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A260-0CA5-4B0D-BFC6-8F976EDC4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CC4D-9024-47A1-8D48-001D1CAB3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tramonto__amazzonia_rio_Ariau"/>
          <p:cNvPicPr/>
          <p:nvPr/>
        </p:nvPicPr>
        <p:blipFill>
          <a:blip r:embed="rId1"/>
          <a:stretch/>
        </p:blipFill>
        <p:spPr>
          <a:xfrm>
            <a:off x="0" y="0"/>
            <a:ext cx="9144000" cy="6858000"/>
          </a:xfrm>
          <a:prstGeom prst="rect">
            <a:avLst/>
          </a:prstGeom>
          <a:ln w="0">
            <a:noFill/>
          </a:ln>
        </p:spPr>
      </p:pic>
      <p:sp>
        <p:nvSpPr>
          <p:cNvPr id="42" name="Text Box 6"/>
          <p:cNvSpPr/>
          <p:nvPr/>
        </p:nvSpPr>
        <p:spPr>
          <a:xfrm>
            <a:off x="755640" y="1484280"/>
            <a:ext cx="7920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Missione a Manaus - Amazzon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Brasi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Cooperazione tr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 </a:t>
            </a:r>
            <a:r>
              <a:rPr b="1" lang="it-IT" sz="3600" spc="-1" strike="noStrike">
                <a:solidFill>
                  <a:srgbClr val="000000"/>
                </a:solidFill>
                <a:latin typeface="Bookman Old Style"/>
              </a:rPr>
              <a:t>Pesqueira – Padova – Manau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a partire dal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1476360" y="333360"/>
            <a:ext cx="5832360" cy="70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Alcune necessità…</a:t>
            </a:r>
            <a:endParaRPr b="0" lang="en-US" sz="3600" spc="-1" strike="noStrike">
              <a:solidFill>
                <a:srgbClr val="000000"/>
              </a:solidFill>
              <a:latin typeface="Arial"/>
            </a:endParaRPr>
          </a:p>
        </p:txBody>
      </p:sp>
      <p:sp>
        <p:nvSpPr>
          <p:cNvPr id="64" name="Rectangle 3"/>
          <p:cNvSpPr/>
          <p:nvPr/>
        </p:nvSpPr>
        <p:spPr>
          <a:xfrm>
            <a:off x="571680" y="1285920"/>
            <a:ext cx="7858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azione e accompagnamento degli agenti della evangelizzazione che provengono da altre region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hiesa in Amazzonia ha bisogno di molti presbiteri, laici e laiche, religiosi e religiose qualificati per poter accompagnare le comunità, specie nelle nuove aree che si stanno sovrappopolando nelle periferie urba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gliaia di comunità cattoliche dell’Amazzonia non hanno la celebrazione frequente dell’Eucaristia, per mancanza di presbiteri; è urgente promuovere una pastorale delle vocazioni. C’è carenza nell’ambito della formazione teologica e sono necessari insegnanti negli istituti teologic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CasellaDiTesto 1"/>
          <p:cNvSpPr/>
          <p:nvPr/>
        </p:nvSpPr>
        <p:spPr>
          <a:xfrm>
            <a:off x="428760" y="285840"/>
            <a:ext cx="792936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Arial"/>
              </a:rPr>
              <a:t>Le grandi distanze esigono l’impiego di un grande volume di risorse finanziarie; la Chiesa nell’Amazzonia dovrà sviluppare forme di auto finanziamento, grazie alla Pastorale del “Dizimo” (la decima parte) e altre forme di condivisi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Immagine 2" descr="fotos das comunidades 008.jpg"/>
          <p:cNvPicPr/>
          <p:nvPr/>
        </p:nvPicPr>
        <p:blipFill>
          <a:blip r:embed="rId1"/>
          <a:stretch/>
        </p:blipFill>
        <p:spPr>
          <a:xfrm>
            <a:off x="3809880" y="2071800"/>
            <a:ext cx="5334120" cy="4000320"/>
          </a:xfrm>
          <a:prstGeom prst="rect">
            <a:avLst/>
          </a:prstGeom>
          <a:ln w="0">
            <a:noFill/>
          </a:ln>
        </p:spPr>
      </p:pic>
      <p:sp>
        <p:nvSpPr>
          <p:cNvPr id="67" name="CasellaDiTesto 4"/>
          <p:cNvSpPr/>
          <p:nvPr/>
        </p:nvSpPr>
        <p:spPr>
          <a:xfrm>
            <a:off x="428760" y="1643040"/>
            <a:ext cx="32144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Risorse economiche e contributi per sostenere i Seminari, i missionari, le opere sociali (ambulatorio medico, centri di accoglienza per minori, Pastorale del Minore) e per la formazione di evangelizzatori e centri di formazione per catechist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rse di studio, approfittando dei Centri di formazione (liturgia, Bibbia, catechesi, pedagogia).</a:t>
            </a: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Immagine 1" descr="fotos das comunidades 056.jpg"/>
          <p:cNvPicPr/>
          <p:nvPr/>
        </p:nvPicPr>
        <p:blipFill>
          <a:blip r:embed="rId1"/>
          <a:stretch/>
        </p:blipFill>
        <p:spPr>
          <a:xfrm>
            <a:off x="0" y="0"/>
            <a:ext cx="91440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Immagine 1" descr="fotos das comunidades 046.jpg"/>
          <p:cNvPicPr/>
          <p:nvPr/>
        </p:nvPicPr>
        <p:blipFill>
          <a:blip r:embed="rId1"/>
          <a:stretch/>
        </p:blipFill>
        <p:spPr>
          <a:xfrm>
            <a:off x="0" y="0"/>
            <a:ext cx="9144000" cy="68580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Immagine 1" descr="fotos das comunidades 118.jpg"/>
          <p:cNvPicPr/>
          <p:nvPr/>
        </p:nvPicPr>
        <p:blipFill>
          <a:blip r:embed="rId1"/>
          <a:stretch/>
        </p:blipFill>
        <p:spPr>
          <a:xfrm>
            <a:off x="0" y="0"/>
            <a:ext cx="9144000" cy="6858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magine 1" descr="fotos das comunidades 139.jpg"/>
          <p:cNvPicPr/>
          <p:nvPr/>
        </p:nvPicPr>
        <p:blipFill>
          <a:blip r:embed="rId1"/>
          <a:stretch/>
        </p:blipFill>
        <p:spPr>
          <a:xfrm>
            <a:off x="0" y="0"/>
            <a:ext cx="914400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5" descr="manaus009"/>
          <p:cNvPicPr/>
          <p:nvPr/>
        </p:nvPicPr>
        <p:blipFill>
          <a:blip r:embed="rId1"/>
          <a:stretch/>
        </p:blipFill>
        <p:spPr>
          <a:xfrm>
            <a:off x="0" y="0"/>
            <a:ext cx="4762440" cy="3571920"/>
          </a:xfrm>
          <a:prstGeom prst="rect">
            <a:avLst/>
          </a:prstGeom>
          <a:ln w="0">
            <a:noFill/>
          </a:ln>
        </p:spPr>
      </p:pic>
      <p:sp>
        <p:nvSpPr>
          <p:cNvPr id="73" name="Text Box 5"/>
          <p:cNvSpPr/>
          <p:nvPr/>
        </p:nvSpPr>
        <p:spPr>
          <a:xfrm>
            <a:off x="5651640" y="1268280"/>
            <a:ext cx="252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us</a:t>
            </a:r>
            <a:r>
              <a:rPr b="0" lang="en-US" sz="2000" spc="-1" strike="noStrike">
                <a:solidFill>
                  <a:srgbClr val="000000"/>
                </a:solidFill>
                <a:latin typeface="Arial"/>
              </a:rPr>
              <a:t> è una città con un 1,8 milioni di abitanti</a:t>
            </a:r>
            <a:endParaRPr b="0" lang="en-US" sz="2000" spc="-1" strike="noStrike">
              <a:solidFill>
                <a:srgbClr val="000000"/>
              </a:solidFill>
              <a:latin typeface="Arial"/>
            </a:endParaRPr>
          </a:p>
        </p:txBody>
      </p:sp>
      <p:sp>
        <p:nvSpPr>
          <p:cNvPr id="74" name="Text Box 6"/>
          <p:cNvSpPr/>
          <p:nvPr/>
        </p:nvSpPr>
        <p:spPr>
          <a:xfrm>
            <a:off x="250920" y="3645000"/>
            <a:ext cx="3671640" cy="298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ta sulla riva del Rio Negro vicino alla confluenza con il Rio delle Amazzoni, è un porto importante e un centro di snodo per il sistema fluviale della region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nche un punto comune da cui i turisti partono per visitare la foresta amazzonic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5" name="Picture 8" descr="Amazzonia(c)%20WWF-Canon_%20Michel%20ROGGOmedia"/>
          <p:cNvPicPr/>
          <p:nvPr/>
        </p:nvPicPr>
        <p:blipFill>
          <a:blip r:embed="rId2"/>
          <a:stretch/>
        </p:blipFill>
        <p:spPr>
          <a:xfrm>
            <a:off x="4140360" y="2820960"/>
            <a:ext cx="5003640" cy="3192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7" descr="Manaus_Encontro_das_aguas_10_2006_105_xoom8x6"/>
          <p:cNvPicPr/>
          <p:nvPr/>
        </p:nvPicPr>
        <p:blipFill>
          <a:blip r:embed="rId1"/>
          <a:stretch/>
        </p:blipFill>
        <p:spPr>
          <a:xfrm>
            <a:off x="0" y="0"/>
            <a:ext cx="9144000" cy="68580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CasellaDiTesto 1"/>
          <p:cNvSpPr/>
          <p:nvPr/>
        </p:nvSpPr>
        <p:spPr>
          <a:xfrm>
            <a:off x="1571760" y="571680"/>
            <a:ext cx="5786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anaus</a:t>
            </a:r>
            <a:endParaRPr b="0" lang="en-US" sz="3600" spc="-1" strike="noStrike">
              <a:solidFill>
                <a:srgbClr val="000000"/>
              </a:solidFill>
              <a:latin typeface="Arial"/>
            </a:endParaRPr>
          </a:p>
        </p:txBody>
      </p:sp>
      <p:sp>
        <p:nvSpPr>
          <p:cNvPr id="78" name="CasellaDiTesto 3"/>
          <p:cNvSpPr/>
          <p:nvPr/>
        </p:nvSpPr>
        <p:spPr>
          <a:xfrm>
            <a:off x="1116000" y="1773360"/>
            <a:ext cx="671508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Manaus si trovano circa 20 mila indigeni che hanno lasciato la tribù. Sono coloro che si sono “autoesclusi”.</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i sono migliaia di persone che è vissuta lungo i fiumi che ora vive sradicata, disoccupata, nella sua maggioranza.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anaus conosce una esplosione demografica e un aumento di quartieri non integrati con la città, che nascono e crescono come funghi, ogni giorno… Solo di immigrati peruani si calcolano circa 40 mila negli ultimi dieci anni. </a:t>
            </a: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Stad-Manaus-Favela_g"/>
          <p:cNvPicPr/>
          <p:nvPr/>
        </p:nvPicPr>
        <p:blipFill>
          <a:blip r:embed="rId1"/>
          <a:stretch/>
        </p:blipFill>
        <p:spPr>
          <a:xfrm>
            <a:off x="0" y="0"/>
            <a:ext cx="9144000" cy="685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4"/>
          <p:cNvSpPr/>
          <p:nvPr/>
        </p:nvSpPr>
        <p:spPr>
          <a:xfrm>
            <a:off x="900000" y="1341360"/>
            <a:ext cx="770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
          <p:cNvSpPr/>
          <p:nvPr/>
        </p:nvSpPr>
        <p:spPr>
          <a:xfrm>
            <a:off x="468360" y="476280"/>
            <a:ext cx="3744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azzonia brasiliana è formata da dieci Stati: Acre, Amapá, Amazonas, Goiás, Pará, Rondônia, Roraima, Tocantins, Maranhão e Mato Gros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territorio comprende 5.030.730 km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59 % del territorio nazion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65% di tutto il bacino amazzon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 sono 23 milioni di abitanti, all’interno dei quali ci sono 163 tribù indigene (circa 208 mila persone) corrispondente al 60% della popolazione indigena brasiliana.</a:t>
            </a:r>
            <a:endParaRPr b="0" lang="en-US" sz="2000" spc="-1" strike="noStrike">
              <a:solidFill>
                <a:srgbClr val="000000"/>
              </a:solidFill>
              <a:latin typeface="Arial"/>
            </a:endParaRPr>
          </a:p>
        </p:txBody>
      </p:sp>
      <p:pic>
        <p:nvPicPr>
          <p:cNvPr id="45" name="Picture 8" descr="Brasile"/>
          <p:cNvPicPr/>
          <p:nvPr/>
        </p:nvPicPr>
        <p:blipFill>
          <a:blip r:embed="rId1"/>
          <a:stretch/>
        </p:blipFill>
        <p:spPr>
          <a:xfrm>
            <a:off x="4427640" y="1197000"/>
            <a:ext cx="4224240" cy="45370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0"/>
            <a:ext cx="9144000" cy="6858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Immagine 2" descr="fotos das comunidades 163.jpg"/>
          <p:cNvPicPr/>
          <p:nvPr/>
        </p:nvPicPr>
        <p:blipFill>
          <a:blip r:embed="rId1"/>
          <a:stretch/>
        </p:blipFill>
        <p:spPr>
          <a:xfrm>
            <a:off x="3048120" y="2286000"/>
            <a:ext cx="6095880" cy="4572000"/>
          </a:xfrm>
          <a:prstGeom prst="rect">
            <a:avLst/>
          </a:prstGeom>
          <a:ln w="0">
            <a:noFill/>
          </a:ln>
        </p:spPr>
      </p:pic>
      <p:sp>
        <p:nvSpPr>
          <p:cNvPr id="82" name="CasellaDiTesto 1"/>
          <p:cNvSpPr/>
          <p:nvPr/>
        </p:nvSpPr>
        <p:spPr>
          <a:xfrm>
            <a:off x="500040" y="428760"/>
            <a:ext cx="807264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ia obbligatoria, Manaus, per il narcotraffico, la corruzione, la violenza, la fame che caratterizzano le grandi città.. Grazie ad una programmazione pastorale partecipativa, la Chiesa di Manaus tenta di rispondere alle sf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CasellaDiTesto 4"/>
          <p:cNvSpPr/>
          <p:nvPr/>
        </p:nvSpPr>
        <p:spPr>
          <a:xfrm>
            <a:off x="428760" y="1857240"/>
            <a:ext cx="250020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Fazenda Esperança” (per tossicodipendenti), i seminari, l’Istituto di Pastorale, la stazione radiofonica e televisiva, la Scuola Fede e Politica... sono alcune delle iniziative che testimoniano una Chiesa v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5" descr="Brasile"/>
          <p:cNvPicPr/>
          <p:nvPr/>
        </p:nvPicPr>
        <p:blipFill>
          <a:blip r:embed="rId1"/>
          <a:stretch/>
        </p:blipFill>
        <p:spPr>
          <a:xfrm>
            <a:off x="0" y="260280"/>
            <a:ext cx="4968720" cy="5025960"/>
          </a:xfrm>
          <a:prstGeom prst="rect">
            <a:avLst/>
          </a:prstGeom>
          <a:ln w="0">
            <a:noFill/>
          </a:ln>
        </p:spPr>
      </p:pic>
      <p:sp>
        <p:nvSpPr>
          <p:cNvPr id="47" name="Text Box 6"/>
          <p:cNvSpPr/>
          <p:nvPr/>
        </p:nvSpPr>
        <p:spPr>
          <a:xfrm>
            <a:off x="4932360" y="260280"/>
            <a:ext cx="38876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azzonia è un territorio immenso di terra nel quale vivono, nella loro diversità socio-culturale, innumerevoli popoli e dove sono presenti moltissime e diversificate forme di vita ancora intatt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ricchissima “socio-biodiversità” che ci interpella: come persone, come società e come umanità. </a:t>
            </a:r>
            <a:endParaRPr b="0" lang="en-US" sz="2000" spc="-1" strike="noStrike">
              <a:solidFill>
                <a:srgbClr val="000000"/>
              </a:solidFill>
              <a:latin typeface="Arial"/>
            </a:endParaRPr>
          </a:p>
        </p:txBody>
      </p:sp>
      <p:sp>
        <p:nvSpPr>
          <p:cNvPr id="48" name="Text Box 7"/>
          <p:cNvSpPr/>
          <p:nvPr/>
        </p:nvSpPr>
        <p:spPr>
          <a:xfrm>
            <a:off x="4140360" y="4724280"/>
            <a:ext cx="43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9" descr="immagine"/>
          <p:cNvPicPr/>
          <p:nvPr/>
        </p:nvPicPr>
        <p:blipFill>
          <a:blip r:embed="rId2"/>
          <a:stretch/>
        </p:blipFill>
        <p:spPr>
          <a:xfrm>
            <a:off x="4427640" y="3990960"/>
            <a:ext cx="4505400" cy="27050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357120" y="714240"/>
            <a:ext cx="3059280" cy="543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oresta amazzonica, il "polmone verde" del Pianeta stretto nella morsa della deforestazione e dei cambiamenti climatic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o il 2030 il 60% della foresta amazzonica potrebbe essere danneggiata in modo irreversibile con delle drammatiche conseguenze che la perdita della foresta amazzonica potrebbe significare per il clima a  livello locale e globale.</a:t>
            </a:r>
            <a:endParaRPr b="0" lang="en-US" sz="2000" spc="-1" strike="noStrike">
              <a:solidFill>
                <a:srgbClr val="000000"/>
              </a:solidFill>
              <a:latin typeface="Arial"/>
            </a:endParaRPr>
          </a:p>
        </p:txBody>
      </p:sp>
      <p:pic>
        <p:nvPicPr>
          <p:cNvPr id="51" name="Picture 5" descr="Greenpeace_Amazzonia"/>
          <p:cNvPicPr/>
          <p:nvPr/>
        </p:nvPicPr>
        <p:blipFill>
          <a:blip r:embed="rId1"/>
          <a:stretch/>
        </p:blipFill>
        <p:spPr>
          <a:xfrm>
            <a:off x="3500280" y="1357200"/>
            <a:ext cx="5470560" cy="36594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Immagine 7" descr="P1010101.JPG"/>
          <p:cNvPicPr/>
          <p:nvPr/>
        </p:nvPicPr>
        <p:blipFill>
          <a:blip r:embed="rId1"/>
          <a:stretch/>
        </p:blipFill>
        <p:spPr>
          <a:xfrm>
            <a:off x="1214280" y="1895400"/>
            <a:ext cx="6616800" cy="4962600"/>
          </a:xfrm>
          <a:prstGeom prst="rect">
            <a:avLst/>
          </a:prstGeom>
          <a:ln w="0">
            <a:noFill/>
          </a:ln>
        </p:spPr>
      </p:pic>
      <p:sp>
        <p:nvSpPr>
          <p:cNvPr id="53" name="Rectangle 1"/>
          <p:cNvSpPr/>
          <p:nvPr/>
        </p:nvSpPr>
        <p:spPr>
          <a:xfrm>
            <a:off x="500040" y="337320"/>
            <a:ext cx="7786800" cy="317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fondamentale aver presente ciò che sta in palio nell’Amazzonia: la ricchezza di biodiversità, di acque, la quantità immensa di terra, l’abbondanza di legname e il volume incalcolabile di minerali strategici nel suo sottosuolo. Tutto ciò costituisce la ragione dell’interesse e della avidità a livello internazion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Belid"/>
          <p:cNvPicPr/>
          <p:nvPr/>
        </p:nvPicPr>
        <p:blipFill>
          <a:blip r:embed="rId1"/>
          <a:stretch/>
        </p:blipFill>
        <p:spPr>
          <a:xfrm>
            <a:off x="0" y="0"/>
            <a:ext cx="9144000" cy="7315200"/>
          </a:xfrm>
          <a:prstGeom prst="rect">
            <a:avLst/>
          </a:prstGeom>
          <a:ln w="0">
            <a:noFill/>
          </a:ln>
        </p:spPr>
      </p:pic>
      <p:sp>
        <p:nvSpPr>
          <p:cNvPr id="55" name="Text Box 8"/>
          <p:cNvSpPr/>
          <p:nvPr/>
        </p:nvSpPr>
        <p:spPr>
          <a:xfrm>
            <a:off x="900000" y="1341360"/>
            <a:ext cx="7345440" cy="558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 Chiesa in Amazzonia ha offerto una testimonianza ammirevole, di grande vitalità, frutto di una visione più ampia e profonda della realtà locale e della vita in generale. </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Ha sviluppato la spiritualità, la teologia, la pastorale e la missionarietà in modo originale, coinvolgendo molte persone, soprattutto donne, che si spinsero nella foresta, lungo i fiumi e le strade portando la Parola di Dio, incoraggiando le comunità, facendo sì che il popolo mantenesse viva la sua fede e pratica cristian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CasellaDiTesto 3"/>
          <p:cNvSpPr/>
          <p:nvPr/>
        </p:nvSpPr>
        <p:spPr>
          <a:xfrm>
            <a:off x="1857240" y="357120"/>
            <a:ext cx="578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La Chiesa in Amazzonia</a:t>
            </a:r>
            <a:endParaRPr b="0" lang="en-US" sz="36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76000" y="333360"/>
            <a:ext cx="5832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Alcune sfide…</a:t>
            </a:r>
            <a:endParaRPr b="0" lang="en-US" sz="3600" spc="-1" strike="noStrike">
              <a:solidFill>
                <a:srgbClr val="000000"/>
              </a:solidFill>
              <a:latin typeface="Arial"/>
            </a:endParaRPr>
          </a:p>
        </p:txBody>
      </p:sp>
      <p:sp>
        <p:nvSpPr>
          <p:cNvPr id="58" name=""/>
          <p:cNvSpPr txBox="1"/>
          <p:nvPr/>
        </p:nvSpPr>
        <p:spPr>
          <a:xfrm>
            <a:off x="428760" y="1000080"/>
            <a:ext cx="8229600" cy="452592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poveri, le CEB’s, una etica ambientale e il dialogo interculturale e interreligioso non son stati assunti fino in fondo come elementi essenziali dell’evangelizzazione, della pastorale e della catechesi della Chies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ncanza di collaborazione politica in favore della popolazione locale (la terra, rispetto dell’ambiente, individuazione e demarcazione delle terre indigene…).</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poverimento, mancanza di speranza nel popolo, l’esodo rurale, la pastorale urba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entecostalismo cattolico e protestante dilaga tra i più poveri, insieme ad altre denominazioni religiose.</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cessità di un numero maggiore di agenti di pastorale, preti, laiche e laici, religiose e religiosi, in vista di un servizio pastorale e sociale qualificato.</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Immagine 3" descr="fotos das comunidades 045.jpg"/>
          <p:cNvPicPr/>
          <p:nvPr/>
        </p:nvPicPr>
        <p:blipFill>
          <a:blip r:embed="rId1"/>
          <a:stretch/>
        </p:blipFill>
        <p:spPr>
          <a:xfrm>
            <a:off x="0" y="0"/>
            <a:ext cx="9144000" cy="6858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42960" y="571320"/>
            <a:ext cx="7704000" cy="1439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difficoltà di comunicazione e le grandi distanze.</a:t>
            </a:r>
            <a:endParaRPr b="0" lang="en-US" sz="20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hiesa è pressoché assente nel mondo accademico e negli spazi che influenzino l’opinione pubbli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9"/>
          <p:cNvSpPr/>
          <p:nvPr/>
        </p:nvSpPr>
        <p:spPr>
          <a:xfrm>
            <a:off x="179280" y="2492280"/>
            <a:ext cx="2664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ncentrazione di investimenti economici nelle grandi città provocano la “favelizzazione” e la perdita di identità culturale  e  religios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Immagine 4" descr="P1010020.JPG"/>
          <p:cNvPicPr/>
          <p:nvPr/>
        </p:nvPicPr>
        <p:blipFill>
          <a:blip r:embed="rId1"/>
          <a:stretch/>
        </p:blipFill>
        <p:spPr>
          <a:xfrm>
            <a:off x="3071880" y="2303640"/>
            <a:ext cx="6072120" cy="45543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9:18:28Z</dcterms:created>
  <dc:creator>utente 1</dc:creator>
  <dc:description/>
  <dc:language>en-US</dc:language>
  <cp:lastModifiedBy>-</cp:lastModifiedBy>
  <dcterms:modified xsi:type="dcterms:W3CDTF">2009-09-20T10:46:05Z</dcterms:modified>
  <cp:revision>20</cp:revision>
  <dc:subject/>
  <dc:title>Diapositiva 1</dc:title>
</cp:coreProperties>
</file>